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56B-FC20-4738-B95D-0E08B296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2C1-B637-406A-83BC-3B6F9C7A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88D-AC03-4A93-9AF2-C0F9F4AB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82F-CBD0-4D06-AE91-D6DB5004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A78D-4564-419D-9933-CE97A32B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AB52-9809-4DEF-8944-D3D4AB8D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528C-3496-4BDB-81D4-E1969249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2257-C6FD-4E10-8BD8-978EE15B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639F-EE2D-4831-AADD-0E048732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2B41-07BD-435C-88DD-768F3A89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B82D-04BD-4C76-AC9E-86D99DBD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725-5B96-4C97-A843-AF5D1E34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9A7C-C334-4D9A-A269-08F9694D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82C2-070E-4FAA-B30B-4C390E28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6E01-0DD2-4D78-87F2-CB6D27E2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B9D9-D259-44C5-BF17-7CA00C7E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FA70-43D8-4C55-B276-E737CC0E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B86-E2E0-4F24-9D6B-71269E30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547-1C39-4D49-97D9-88C6C698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51E-5325-464D-AA1F-D2F4F8FC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3C2-E6A1-43B5-94E7-C58CC7BB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BF4-CE2F-4E1A-BB92-BA72D05E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A45-D535-43AE-BA54-9244B3A2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305-42EF-4C04-8CCC-FAE953C9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ADBD-CA59-467E-8230-119FA4F03E8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D7CE-C6DD-4ACE-AEA7-EA2892EACF5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acticum’s Wonderful Teaching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Nicholas Doy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ckward Desig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use it to make sure it is clear what topic we want to addr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ing backwards helps keep things in ord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fferenti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may had been stress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ned that there are 8 MI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must be addressed when teach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fferenti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d a good idea of adding music to my cla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rprised that there were so many mo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ired Resul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covered new and different ways to ass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ic Life, IMovie, GarageBand, simple rubr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ired Resul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we all know how we get some of those resul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979880" y="1600200"/>
            <a:ext cx="3375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rted at believing teaching was only done by writing on the bo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d a fear of talking in front of peo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ded at knowing that to reach every student, which is my goal, I need to teach in ways that are different from lectur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w I have no problem talking with all eyes on 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6:38:38Z</dcterms:created>
  <dc:creator>Student</dc:creator>
  <dc:description/>
  <dc:language>en-US</dc:language>
  <cp:lastModifiedBy>Student</cp:lastModifiedBy>
  <dcterms:modified xsi:type="dcterms:W3CDTF">2008-04-10T12:55:16Z</dcterms:modified>
  <cp:revision>8</cp:revision>
  <dc:subject/>
  <dc:title>Practicum’s Wonderful Teachings</dc:title>
</cp:coreProperties>
</file>